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1C15-EE2A-495F-8AA4-519FA166822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F2BE8-25A7-4039-A044-C57DEF643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BE7F9-5D29-48D4-B6EB-6A865FFCF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8378F-1BBE-4E34-A59C-9FF89EF98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239E3-1B4C-4067-8C53-ECDF55B0A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94DCF-7036-458F-9AAC-3197A52AB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4994C-EE49-4A55-A46E-64AF905AA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485DF-AB0A-4F75-B130-0BDF2696A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3D468-C12A-438F-800E-8DBD9935E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6FAB5-45F9-4CE5-A9C2-6EE637E68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0CFCE-FD66-49A3-B958-A6EAD5F8C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74C97-29A5-46E1-B989-AEB1911C2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759C1-B85B-48D9-B4EF-2B5D0F83B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09B8-C581-45F9-BD7A-A4AE7B0133E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15A6-C05F-4078-A379-B60A3099DD48}"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cp:lastModifiedBy>
  <dcterms:modified xsi:type="dcterms:W3CDTF">2016-12-07T08:31:55Z</dcterms:modified>
  <cp:revision>9</cp:revision>
  <dc:subject/>
  <dc:title>SUPPORT AND TRANSPORT IN PLANTS</dc:title>
</cp:coreProperties>
</file>